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0.wmf" ContentType="image/x-wmf"/>
  <Override PartName="/ppt/media/image4.jpeg" ContentType="image/jpeg"/>
  <Override PartName="/ppt/media/image13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5.jpeg" ContentType="image/jpeg"/>
  <Override PartName="/ppt/media/image1.png" ContentType="image/png"/>
  <Override PartName="/ppt/media/image2.jpeg" ContentType="image/jpeg"/>
  <Override PartName="/ppt/media/image3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852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176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9528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852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176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95280" y="1197000"/>
            <a:ext cx="7462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852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4176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29528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852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4176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5280" y="1197000"/>
            <a:ext cx="7462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33520" y="30492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57120" indent="-177840">
              <a:lnSpc>
                <a:spcPts val="2599"/>
              </a:lnSpc>
              <a:buClr>
                <a:srgbClr val="80808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536400" indent="-177480">
              <a:lnSpc>
                <a:spcPts val="2599"/>
              </a:lnSpc>
              <a:buClr>
                <a:srgbClr val="b2b2b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720720" indent="-182520">
              <a:lnSpc>
                <a:spcPts val="2599"/>
              </a:lnSpc>
              <a:buClr>
                <a:srgbClr val="c0c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7207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7207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054080" y="5969160"/>
            <a:ext cx="7966080" cy="1608480"/>
          </a:xfrm>
          <a:prstGeom prst="octagon">
            <a:avLst>
              <a:gd name="adj" fmla="val 292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199"/>
              </a:lnSpc>
              <a:spcBef>
                <a:spcPts val="561"/>
              </a:spcBef>
              <a:tabLst>
                <a:tab algn="l" pos="0"/>
                <a:tab algn="r" pos="7448400"/>
                <a:tab algn="l" pos="8229600"/>
                <a:tab algn="l" pos="9144000"/>
                <a:tab algn="l" pos="10058400"/>
              </a:tabLst>
            </a:pPr>
            <a:r>
              <a:rPr b="1" lang="fr-CH" sz="900" spc="-1" strike="noStrike">
                <a:solidFill>
                  <a:srgbClr val="000000"/>
                </a:solidFill>
                <a:latin typeface="Arial"/>
              </a:rPr>
              <a:t>Statistique des bâtiments et des logements (StatBL)</a:t>
            </a:r>
            <a:r>
              <a:rPr b="0" lang="fr-CH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	</a:t>
            </a:r>
            <a:fld id="{386576F5-7DB8-4E31-9068-A1504C94CD83}" type="slidenum">
              <a:rPr b="0" lang="de-CH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br>
              <a:rPr sz="900"/>
            </a:b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Katrin Imwinkelried</a:t>
            </a: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199"/>
              </a:lnSpc>
              <a:spcBef>
                <a:spcPts val="561"/>
              </a:spcBef>
              <a:tabLst>
                <a:tab algn="l" pos="0"/>
                <a:tab algn="r" pos="74484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H="1">
            <a:off x="1285560" y="6162840"/>
            <a:ext cx="749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27000" y="387360"/>
            <a:ext cx="1997280" cy="507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572000" y="387360"/>
            <a:ext cx="35812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Département fédéral de l’intérieur DFI</a:t>
            </a:r>
            <a:br>
              <a:rPr sz="800"/>
            </a:b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Office fédéral de la statistique OF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642960"/>
            <a:ext cx="662040" cy="621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6720" y="2320920"/>
            <a:ext cx="7429320" cy="27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27000" y="387360"/>
            <a:ext cx="1997280" cy="507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642960"/>
            <a:ext cx="662040" cy="6215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572000" y="387360"/>
            <a:ext cx="35812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Département fédéral de l’intérieur DFI</a:t>
            </a:r>
            <a:br>
              <a:rPr sz="800"/>
            </a:b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Office fédéral de la statistique OF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79280" algn="ctr">
              <a:lnSpc>
                <a:spcPts val="2599"/>
              </a:lnSpc>
              <a:buClr>
                <a:srgbClr val="80808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58920" algn="ctr">
              <a:lnSpc>
                <a:spcPts val="2599"/>
              </a:lnSpc>
              <a:buClr>
                <a:srgbClr val="b2b2b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538200" algn="ctr">
              <a:lnSpc>
                <a:spcPts val="2599"/>
              </a:lnSpc>
              <a:buClr>
                <a:srgbClr val="c0c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538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538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6720" y="2320920"/>
            <a:ext cx="7522920" cy="19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00"/>
                </a:solidFill>
                <a:latin typeface="Arial"/>
                <a:ea typeface="Arial"/>
              </a:rPr>
              <a:t>Statistique des bâtiments et des logements (StatBL)</a:t>
            </a:r>
            <a:r>
              <a:rPr b="1" lang="fr-CH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58560" y="5554800"/>
            <a:ext cx="742932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éance 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d’information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: préparation du RFP2010 et de 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l’enquête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sur la formation de base et la formation continue 2011 - 8 octobre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Katrin Imwinkelri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95280" y="1412640"/>
            <a:ext cx="74628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Planification de la diffu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116000" y="2459160"/>
            <a:ext cx="777708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5280" y="1412640"/>
            <a:ext cx="74628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Etat de trava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94920" y="2457360"/>
            <a:ext cx="7597800" cy="33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Enquête pilote StatBL mini 08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999"/>
              </a:lnSpc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- Construction du système de produc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999"/>
              </a:lnSpc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- Snapshot GWR avec jour de référence le 31.12.2008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999"/>
              </a:lnSpc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- Développement de la méthode d’imputation, y c. les tes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buClr>
                <a:srgbClr val="000000"/>
              </a:buClr>
              <a:buFont typeface="Arial"/>
              <a:buChar char="-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Tableaux standard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999"/>
              </a:lnSpc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999"/>
              </a:lnSpc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StatBL mini 09 parallèlement à la phase de test du RF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295280" y="3213000"/>
            <a:ext cx="74628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Questions - discussion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5280" y="1412640"/>
            <a:ext cx="74628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Sommai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4920" y="2133360"/>
            <a:ext cx="7597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- Contexte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Introduction par étape de la StatBL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Définitions - no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Outpu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Facteurs critiques de réussite de la StatBL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Planification de la diffus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Etat des travaux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Questions - discussion</a:t>
            </a: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556000" y="4076640"/>
            <a:ext cx="576000" cy="320760"/>
          </a:xfrm>
          <a:prstGeom prst="rightArrow">
            <a:avLst>
              <a:gd name="adj1" fmla="val 50157"/>
              <a:gd name="adj2" fmla="val 684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332000" y="2276640"/>
            <a:ext cx="877680" cy="1663560"/>
            <a:chOff x="1332000" y="2276640"/>
            <a:chExt cx="877680" cy="1663560"/>
          </a:xfrm>
        </p:grpSpPr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1332000" y="2276640"/>
              <a:ext cx="877680" cy="12650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92" name=""/>
            <p:cNvSpPr/>
            <p:nvPr/>
          </p:nvSpPr>
          <p:spPr>
            <a:xfrm>
              <a:off x="1382400" y="3573360"/>
              <a:ext cx="791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2266920" y="436392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RdH (R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53802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Relevé structur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792200">
            <a:off x="2633760" y="2924280"/>
            <a:ext cx="569880" cy="320400"/>
          </a:xfrm>
          <a:prstGeom prst="rightArrow">
            <a:avLst>
              <a:gd name="adj1" fmla="val 50157"/>
              <a:gd name="adj2" fmla="val 67803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82920" y="43448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669900"/>
                </a:solidFill>
                <a:latin typeface="Arial"/>
              </a:rPr>
              <a:t>Système de p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64360" y="4554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669900"/>
                </a:solidFill>
                <a:latin typeface="Arial"/>
              </a:rPr>
              <a:t>StatB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6101280" y="3094200"/>
            <a:ext cx="539640" cy="4176720"/>
          </a:xfrm>
          <a:custGeom>
            <a:avLst/>
            <a:gdLst>
              <a:gd name="textAreaLeft" fmla="*/ 344880 w 539640"/>
              <a:gd name="textAreaRight" fmla="*/ 540000 w 53964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80000" y="54738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669900"/>
                </a:solidFill>
                <a:latin typeface="Arial"/>
              </a:rPr>
              <a:t>Projet c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18120" y="3728880"/>
            <a:ext cx="569880" cy="320760"/>
          </a:xfrm>
          <a:prstGeom prst="rightArrow">
            <a:avLst>
              <a:gd name="adj1" fmla="val 50157"/>
              <a:gd name="adj2" fmla="val 6772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282920" y="3032280"/>
            <a:ext cx="1368720" cy="1271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881760" y="3112920"/>
            <a:ext cx="1435320" cy="1297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1332000" y="3789360"/>
            <a:ext cx="863640" cy="115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2340000" y="24861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B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9222200">
            <a:off x="2627280" y="5339880"/>
            <a:ext cx="569880" cy="320760"/>
          </a:xfrm>
          <a:prstGeom prst="rightArrow">
            <a:avLst>
              <a:gd name="adj1" fmla="val 50157"/>
              <a:gd name="adj2" fmla="val 6772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560" y="1197000"/>
            <a:ext cx="7705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Statistique des bâtiments et des logements </a:t>
            </a:r>
            <a:br>
              <a:rPr sz="2800"/>
            </a:b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Contex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8560" y="1197000"/>
            <a:ext cx="7705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Statistique des bâtiments et des logements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Statistique annuelle sur la structure des bâtiments et des logements ainsi que sur les conditions d’habitation dans le cadre de la nouvelle conception du RFP 2010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  <a:ea typeface="新細明體"/>
              </a:rPr>
              <a:t>La StatBL exploite annuellement les données du relevé des registres et du relevé structurel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La StatBL est introduite par étapes (StatBL mini, midi, maxi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Introduction par étapes de la StatBL</a:t>
            </a:r>
            <a:br>
              <a:rPr sz="2800"/>
            </a:b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tatBL mini, midi, max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777708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5280" y="1341000"/>
            <a:ext cx="7669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Définitions - notions</a:t>
            </a: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5280" y="1844640"/>
            <a:ext cx="7669440" cy="39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Univers des </a:t>
            </a: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bâtiments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Tous les bâtiments à usage d’habitation existants en Suisse au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31 décembre de l’année de réfé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Univers des </a:t>
            </a: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logements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Tous les logements avec équipement de cuisine existants en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Suisse au 31 décembre de l’année de réfé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1" lang="fr-CH" sz="2100" spc="-1" strike="noStrike">
                <a:solidFill>
                  <a:srgbClr val="000000"/>
                </a:solidFill>
                <a:latin typeface="Arial"/>
              </a:rPr>
              <a:t>Conditions d’habitation</a:t>
            </a: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Description de l’utilisation des logements par les ménages </a:t>
            </a: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privé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5280" y="133992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Output (1/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881000"/>
            <a:ext cx="774072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buClr>
                <a:srgbClr val="000000"/>
              </a:buClr>
              <a:buFont typeface="Arial"/>
              <a:buChar char="-"/>
              <a:tabLst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Tableaux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buClr>
                <a:srgbClr val="000000"/>
              </a:buClr>
              <a:buFont typeface="Arial"/>
              <a:buChar char="-"/>
              <a:tabLst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Graphiques et car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buClr>
                <a:srgbClr val="000000"/>
              </a:buClr>
              <a:buFont typeface="Arial"/>
              <a:buChar char="-"/>
              <a:tabLst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Fichiers de données individuelles anonymis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buClr>
                <a:srgbClr val="000000"/>
              </a:buClr>
              <a:buFont typeface="Arial"/>
              <a:buChar char="-"/>
              <a:tabLst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Livraison de données aux services de statistique régiona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buClr>
                <a:srgbClr val="000000"/>
              </a:buClr>
              <a:buFont typeface="Arial"/>
              <a:buChar char="-"/>
              <a:tabLst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Commentaires sur des aspects importants du logemen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968640" y="1628640"/>
            <a:ext cx="1324080" cy="806760"/>
            <a:chOff x="3968640" y="1628640"/>
            <a:chExt cx="1324080" cy="806760"/>
          </a:xfrm>
        </p:grpSpPr>
        <p:pic>
          <p:nvPicPr>
            <p:cNvPr id="116" name="" descr=""/>
            <p:cNvPicPr/>
            <p:nvPr/>
          </p:nvPicPr>
          <p:blipFill>
            <a:blip r:embed="rId1"/>
            <a:stretch/>
          </p:blipFill>
          <p:spPr>
            <a:xfrm>
              <a:off x="3968640" y="1628640"/>
              <a:ext cx="492120" cy="56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2"/>
            <a:stretch/>
          </p:blipFill>
          <p:spPr>
            <a:xfrm>
              <a:off x="4113000" y="1844640"/>
              <a:ext cx="492120" cy="56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3"/>
            <a:stretch/>
          </p:blipFill>
          <p:spPr>
            <a:xfrm>
              <a:off x="4689360" y="1628640"/>
              <a:ext cx="460440" cy="59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4"/>
            <a:stretch/>
          </p:blipFill>
          <p:spPr>
            <a:xfrm>
              <a:off x="4832280" y="1844640"/>
              <a:ext cx="460440" cy="590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" name=""/>
          <p:cNvGrpSpPr/>
          <p:nvPr/>
        </p:nvGrpSpPr>
        <p:grpSpPr>
          <a:xfrm>
            <a:off x="4284720" y="2565360"/>
            <a:ext cx="1079280" cy="622080"/>
            <a:chOff x="4284720" y="2565360"/>
            <a:chExt cx="1079280" cy="622080"/>
          </a:xfrm>
        </p:grpSpPr>
        <p:pic>
          <p:nvPicPr>
            <p:cNvPr id="121" name="" descr=""/>
            <p:cNvPicPr/>
            <p:nvPr/>
          </p:nvPicPr>
          <p:blipFill>
            <a:blip r:embed="rId5"/>
            <a:stretch/>
          </p:blipFill>
          <p:spPr>
            <a:xfrm>
              <a:off x="4284720" y="2565360"/>
              <a:ext cx="68112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6"/>
            <a:stretch/>
          </p:blipFill>
          <p:spPr>
            <a:xfrm>
              <a:off x="4683240" y="2739960"/>
              <a:ext cx="680760" cy="447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"/>
          <p:cNvGrpSpPr/>
          <p:nvPr/>
        </p:nvGrpSpPr>
        <p:grpSpPr>
          <a:xfrm>
            <a:off x="5651640" y="2492280"/>
            <a:ext cx="1047600" cy="734760"/>
            <a:chOff x="5651640" y="2492280"/>
            <a:chExt cx="1047600" cy="734760"/>
          </a:xfrm>
        </p:grpSpPr>
        <p:pic>
          <p:nvPicPr>
            <p:cNvPr id="124" name="" descr=""/>
            <p:cNvPicPr/>
            <p:nvPr/>
          </p:nvPicPr>
          <p:blipFill>
            <a:blip r:embed="rId7"/>
            <a:stretch/>
          </p:blipFill>
          <p:spPr>
            <a:xfrm>
              <a:off x="5651640" y="2492280"/>
              <a:ext cx="68112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8"/>
            <a:stretch/>
          </p:blipFill>
          <p:spPr>
            <a:xfrm>
              <a:off x="6012000" y="2707920"/>
              <a:ext cx="687240" cy="51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" name=""/>
          <p:cNvGrpSpPr/>
          <p:nvPr/>
        </p:nvGrpSpPr>
        <p:grpSpPr>
          <a:xfrm>
            <a:off x="7875720" y="3284640"/>
            <a:ext cx="873000" cy="955080"/>
            <a:chOff x="7875720" y="3284640"/>
            <a:chExt cx="873000" cy="955080"/>
          </a:xfrm>
        </p:grpSpPr>
        <p:pic>
          <p:nvPicPr>
            <p:cNvPr id="127" name="" descr=""/>
            <p:cNvPicPr/>
            <p:nvPr/>
          </p:nvPicPr>
          <p:blipFill>
            <a:blip r:embed="rId9"/>
            <a:stretch/>
          </p:blipFill>
          <p:spPr>
            <a:xfrm>
              <a:off x="7875720" y="3284640"/>
              <a:ext cx="638280" cy="81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10"/>
            <a:stretch/>
          </p:blipFill>
          <p:spPr>
            <a:xfrm>
              <a:off x="8091720" y="3428640"/>
              <a:ext cx="657000" cy="81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9" name="" descr=""/>
          <p:cNvPicPr/>
          <p:nvPr/>
        </p:nvPicPr>
        <p:blipFill>
          <a:blip r:embed="rId11"/>
          <a:stretch/>
        </p:blipFill>
        <p:spPr>
          <a:xfrm>
            <a:off x="7740720" y="4869000"/>
            <a:ext cx="985680" cy="82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295280" y="1989000"/>
            <a:ext cx="7848720" cy="39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36180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Bâti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36180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selon catégorie de bâtiment, époque de construction, système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de chauffage, nombre de logements, nombre de niveaux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500"/>
              </a:lnSpc>
              <a:buNone/>
              <a:tabLst>
                <a:tab algn="l" pos="0"/>
                <a:tab algn="l" pos="36180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36180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Log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36180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selon nombre de pièces, surface du logement, loyer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500"/>
              </a:lnSpc>
              <a:buNone/>
              <a:tabLst>
                <a:tab algn="l" pos="0"/>
                <a:tab algn="l" pos="36180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36180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Conditions d’habitation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36180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- Taux de logements occupés par leur propriétai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36180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- Indicateurs et indices relatifs au logement, tels que densité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d’occupation par logement et par pièce, surface par habitant,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etc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36180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- Utilisation des logements par les ménages privé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36180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36180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Output (2/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95280" y="148428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Facteurs critiques de réussite de la StatB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Données complètes et actuelles dans le RegBL fédér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72072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900" spc="-1" strike="noStrike">
                <a:solidFill>
                  <a:srgbClr val="000000"/>
                </a:solidFill>
                <a:latin typeface="Arial"/>
              </a:rPr>
              <a:t>- Réduire les imputations nécessaires au minimum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72072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900" spc="-1" strike="noStrike">
                <a:solidFill>
                  <a:srgbClr val="000000"/>
                </a:solidFill>
                <a:latin typeface="Arial"/>
              </a:rPr>
              <a:t>- Assurer les exploitations au niveau commu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Attribution de l’EWID complète et actuelle dans les RdH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72072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900" spc="-1" strike="noStrike">
                <a:solidFill>
                  <a:srgbClr val="000000"/>
                </a:solidFill>
                <a:latin typeface="Arial"/>
              </a:rPr>
              <a:t>- Viser une formation des ménages complète basée sur l’EWID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72072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900" spc="-1" strike="noStrike">
                <a:solidFill>
                  <a:srgbClr val="000000"/>
                </a:solidFill>
                <a:latin typeface="Arial"/>
              </a:rPr>
              <a:t>- Rendre possible le calcul de l’univers des logements occupés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72072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900" spc="-1" strike="noStrike">
                <a:solidFill>
                  <a:srgbClr val="000000"/>
                </a:solidFill>
                <a:latin typeface="Arial"/>
              </a:rPr>
              <a:t>- Assurer les analyses sur les conditions d’habit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5:12:33Z</dcterms:created>
  <dc:creator>Michel Gentile</dc:creator>
  <dc:description/>
  <dc:language>en-US</dc:language>
  <cp:lastModifiedBy>Sonia Donzé</cp:lastModifiedBy>
  <cp:lastPrinted>2003-11-14T16:51:38Z</cp:lastPrinted>
  <dcterms:modified xsi:type="dcterms:W3CDTF">2009-10-06T06:17:15Z</dcterms:modified>
  <cp:revision>376</cp:revision>
  <dc:subject/>
  <dc:title>Workshop                 – Service de validation</dc:title>
</cp:coreProperties>
</file>